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3A2C7-6368-4379-82F0-B9D84505A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0086-7FB6-4D2C-84C5-1E96FEB5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70E34-1464-4EA3-964C-A9FFE9028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0810B-FF6C-4931-8988-4851472B6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F4FB0F-2F3F-4719-A45F-595B5B7607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31172-37F3-4ED3-8872-71929F2E8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007F9-F265-42E5-BE0C-D95F6F9DC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8C8F2-FDF5-4186-86EF-0FF5590B3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C08A5-B28B-4349-AA47-EB9DABE7CA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7B237A-F7A3-4941-92AC-7546DCEAE2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655D16-740E-49FE-86A5-C39E5C284C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1CA46D-BE2A-470D-BDAE-9F60918F00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6B18C-DE37-479C-9D8A-AB2290A23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252262-3148-4FA4-AE10-ABFAA41E6D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D68F21-FD22-454B-AEAC-3389F8BD61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0C205D-0903-41FB-96FE-7D63576E07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0086E3-FED4-4161-B4E2-D2700C2377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4698C7-C13D-491C-8FD3-73472987D0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AA1ADF-7744-4A95-9E77-7961DE286E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BAE8DD-F19E-4BF4-81A0-EB4BFF0345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28A1AC-AD4F-4161-B735-2A4D913421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E28304-C36E-42E6-80C8-6920A8B4BA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601FBE-6B01-4156-B14B-495ED3A918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4D5FB-3A07-43E3-ABEE-8A345E8DD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386C2F-9D16-4C40-A4EF-3DFBA94D79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730579-61E0-4EE3-83FF-DB591D8A50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D356CF-7908-48AB-9B26-77C08C424B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7CC16F-B3B0-48BE-A05A-0C5E3B529E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8C8E86-351F-447A-BD4C-E619F23568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AF96D1-366A-43AC-AF5E-3908FA6E0F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08C787-C77E-4E2E-B760-A258FE530A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F21169-84BB-4E4D-B8D7-805754BF26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9CB29-A1A4-4146-9806-977E69861A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766D0-0690-41D6-85AF-503F1A0AD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2796E-F4D7-4974-8F70-22C58868C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729CAD-6C14-45E9-BAA8-F5CE4F0817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852622-356B-445E-914B-C48EF26B2A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F24C4A-C69D-411C-BDC0-478497874C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992902-5C43-4538-959E-7D85B15CCD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8BB2B0-52A7-458F-B6B6-7E2DB32E33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30ABA4-5DB5-4579-A130-DB3E0BFAA0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195949-EDBE-43F1-9815-F6F517C0E4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B24E3C-ECE3-4ED5-B707-853F1A164B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F9AE38-8E78-49DC-8F1B-860D7D0B7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04FB2-182D-4EE6-877E-29EB37BCEA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A7C15-462C-433D-A1D6-08BE71051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C65AC0-CF7B-4CF9-91DC-3C97A25891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019DF-B995-474B-84A5-1867DCE76A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1EBB7D-3A78-4461-BFF0-A2388F47B8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86D626-A529-4D72-BF7E-F86C7F16C8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46A3775-BF55-4DB3-888B-56D8CB3454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1F61C-5967-49A0-8C9B-601D6EAE2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2B16B-F927-4264-A9C1-C8DF63304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6340F-CBF2-4C45-BAF7-85B725AAF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4319D-000E-42DA-BDD6-F6D15D5CA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1EF0-6161-42B3-8C2B-E2C751EBA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BEE9-AD4D-4D0B-804F-8B4B71825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F08B-F286-44C4-84C7-4829D4A14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FEDFF-F274-4070-9494-EE1DBB96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F8BF0-6533-485D-8C84-16A11E06E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EDFF5-3DB9-4118-84AF-E3262C1D2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DD72A-27C2-4DF6-8450-011621A55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E8AD8-C581-426E-AEB2-2B8502E62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FF154-2FFC-4513-93ED-406F3F5A3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9B55A-DDC4-436E-92AE-4B2B55757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07BE9-E081-4BF4-BD5B-63FAF565E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7A0B1-2844-4760-9DB1-016A7D84D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25DE7-3E17-4723-A6E0-8558D37D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CCD84-4B08-43DD-B642-E66F8CECB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FF6F6-2F11-4374-9F5C-8679104E5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52103-648C-4146-8500-989627643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0D4C8-B6A3-40B4-8832-0FAE64275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D6ADC-CFE5-4C19-8471-5468B6401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1C6AA-F1D7-4A37-B02C-219625EF5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926B3-0E72-44A3-A99C-48089E0078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A2353-456D-4E83-A10B-91303F413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5C3C9-8CDE-4B76-92C1-FE14F1C80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3A2AB-5599-41DF-AC92-ED45F654A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60F47-E767-48BB-ACAD-FD607A92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75372-EF05-4A3B-853B-6363A38BD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5B6C4-0C57-4C89-9932-3CC51D2A63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BA6E7-6FEC-4076-A348-A1F53F82C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3A83D-0E68-403B-8010-CB0D1B773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0B176-37AC-48E3-BF4D-B51E024C1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D7758-D330-4BA7-955B-5B4263BE9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56BEF-482D-420C-8918-D7C79580D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9F84F-12A7-4CB1-8FCF-DF1A02F800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DB2DE8-F2B9-47F9-92C9-A2D2BA4B66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B4651-D8A7-4F38-96C1-B849E239C3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54EAE-63A3-437B-B923-60366971D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C4AB4-956D-4883-A4CA-432B19066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F8BF6-9138-4E9B-B413-2AEC63E54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8C9A44-6AC7-4F47-A40C-095D8D6C7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D3D10-6C38-4588-8B44-B0523D6B6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06AD4-7E54-43BC-9E8E-8583BDDEA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7EB88-EFDD-42E5-8224-CFA28F6C5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A370A-98C2-477E-8546-9F244081E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D3567-41C5-450F-BB92-0B8DF9EB2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38B5A-7042-443D-A9AF-D5768A1CC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55AEF-C283-4E14-9E98-C7EE3ABDF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0264-F613-437A-8B66-806D60DE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FA36D-8B3E-4723-A656-1AAF26D45B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C6C55B-D3FE-4FD4-B903-CCE26FC6A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9D6A6-8460-4173-98A1-231454F12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F64EAB-9FEF-4323-92CC-9501A0F34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CEABE-57C0-49C4-A4A7-AD3EEF1150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38FDB-4D2E-425E-9305-DC4D9A669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6C410-F751-4102-83BF-4C034C296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2E307-27CD-459A-8A06-05BD60588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B5A4E-01AA-4E80-BCDF-D6F93DC49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D0A2C-B835-4C9E-809A-5FAF9D6BA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E4B9-E48E-4238-85AB-575A0C77B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6D14B-526F-4C06-BE31-738BA3983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4DE62-2026-4A87-948D-0A57B005EC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A21B96-A5AC-4818-9043-FE68441DE4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329FED-8675-44AD-9A9A-12A78DB55D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B0F6A-2721-4FA0-B514-0C10FF32F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DF6E4B-863D-4EF3-8DEF-6831D2D62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16CBC-BCFC-4E07-9776-28369516B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64EF48-FD32-4D54-9982-E890D772C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E6905E-B648-4697-B483-7E476D3AC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CBC03-E4D6-418B-81BB-B116C0072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62ED-31AE-43F2-9F7F-5C0AFCF9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44B09-C363-4ADB-A840-BBA6095F4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B0311-9DF7-4399-AFCD-776255935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2BBC2-9B72-4335-83CF-CFA7E5359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06E592-99C0-404F-A801-CFFC73255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0DA0EF-B1C4-46B1-BB37-DAC415455F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AF2787-8BE2-4415-97CE-3C06B7448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9836FF-47B4-4CD4-A89F-3274B01696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291CEA-E14F-4A42-AC0C-39BC868C5A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D27E3-F659-4BDA-B9B9-62EAE27BB5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054E8-FB04-4BC9-A1C3-5C8CE900FB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A1AD1-76A7-4A18-90AC-89AD19A6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F0CB1-9699-4CE6-B7DA-2DC8C1D03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CF1C9-7C49-4943-8939-D4DC9E5B3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3C973-D2CF-4B6D-B45D-BF2F1A4012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D6B2C-EDD3-4AB0-B92C-612864271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A47E2-BDFD-47C7-B50E-EEDDB385C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0247D8-C5BA-4F28-9A68-7AFF0DA426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5A748B-8B38-4A2C-B454-AFE09222E3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314049-9507-4013-A61F-D689676A69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C29CF-43DD-4B70-B886-FC41D5431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2CFF36-9C97-4AFA-ABFF-9F53EA7279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AC7F-374D-4C01-9F3D-1D4FCB22B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27EB-598F-491F-9177-8D0ADAEC9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C2DD-6B2A-4946-926F-D489238EC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6BE8-2EF4-459B-A017-8B1B4831C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5760-1F14-42F5-93BC-0DFAD26F4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A247-BA80-4854-A195-ED8C1D574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ABFE-9B79-4D52-88F7-263998D32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C1CF-587D-4E14-ADA7-620B63BCA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9777-5D3C-4F49-A8A0-59DE9F4AB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15D5-AFFF-4524-8BBA-D70C2E53E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CF5F-C4B1-4FEB-B14A-A1D4E34FF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04C2-604C-40E3-A1D0-91641D202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agreen247.com/agreen/jpg/penicillin.jpg&amp;imgrefurl=http://blogs.houstonpress.com/houstoned/2006/11/peter_gallagher_and_his_eyebro.php&amp;h=403&amp;w=400&amp;sz=29&amp;hl=en&amp;start=29&amp;sig2=VMR-YKZpUkFMxYWbkZhZmw&amp;tbnid=HyDIoV55BKuOUM:&amp;tbnh=124&amp;tbnw=123&amp;ei=ua_qRvDOOIfIgAOq8dTDBQ&amp;prev=/images%3Fq%3DFleming%2Band%2BPenicillin%26start%3D20%26gbv%3D2%26ndsp%3D20%26svnum%3D10%26hl%3Den%26sa%3DN"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en-US" sz="6000" spc="-1" strike="noStrike">
                <a:solidFill>
                  <a:srgbClr val="000000"/>
                </a:solidFill>
                <a:latin typeface="Arial"/>
              </a:rPr>
              <a:t>MODERN MEDICINE</a:t>
            </a:r>
            <a:endParaRPr b="0" lang="en-US" sz="6000" spc="-1" strike="noStrike">
              <a:solidFill>
                <a:srgbClr val="000000"/>
              </a:solidFill>
              <a:latin typeface="Arial"/>
            </a:endParaRPr>
          </a:p>
        </p:txBody>
      </p:sp>
      <p:sp>
        <p:nvSpPr>
          <p:cNvPr id="49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 Dragana Ignjatović Risti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sychiat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ystematic method of work</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ations, training in special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r application of experiments, statistical methods and the 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large hospitals</a:t>
            </a: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only the poor were in hospitals, and the rich were exclusively treated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introduction of laboratory, ultrasound, X-ray, computerized diagnostics and the development of surgery, everything is chan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on, auscultation, percussion and palpation are not enough - once the doctor carried knowledge and equipment in his b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is requires numerous rooms and large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ocial changes</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agrarian countries become industrial, cities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number of inhabitants is growing, life expectancy is increasing, the age structure of the population is chan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d health insurance is being int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ummary</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rn age can be called the age of social revolution, natural sciences and technology, and in medicine the period of introduction and progress of new technologies, specialization and socialization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edicine is a crossroads where pure science, humanism, economics and sociology inters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Virhof and the establishment of the first laboratory in Prussia, the diagnosis was made by the coating of the tongue, the dryness of the skin, the smell around the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s were shrouded in secrecy and she shared them from the patients. This role was continued and maintained by the tribal sorcerer who treated with his mys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 end of the 19th century, medicine was powerless in the face of severe diseases that inevitably led to de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ctor could help the tired heart, calm the cough, ease the expect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doctors themselves were aware of the ineffectiveness of treatment and their own impot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tween 1830 and 1935, medicine managed to control some serious diseases (diphtheria, diabe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discovery of SULFONAMIDE (1935), a period of discovery of new antibiotics and successes in the fight against diseases be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medicine was ineffective and cheap. It was not an item in the state budg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 medicines were not used, but treatment was done by letting the patient's blood, using means to cleanse the body), so the treatment was fr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s were mainly of herbal origin (teas, drinks, deco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
          <p:cNvPicPr/>
          <p:nvPr/>
        </p:nvPicPr>
        <p:blipFill>
          <a:blip r:embed="rId1"/>
          <a:stretch/>
        </p:blipFill>
        <p:spPr>
          <a:xfrm>
            <a:off x="2484360" y="1916280"/>
            <a:ext cx="4175280" cy="3425760"/>
          </a:xfrm>
          <a:prstGeom prst="rect">
            <a:avLst/>
          </a:prstGeom>
          <a:ln w="0">
            <a:noFill/>
          </a:ln>
        </p:spPr>
      </p:pic>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Ultrasound of a 20-week-old fet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n and now</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edicines (antibiotics, hormones) are much more exp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diagnostic devices, surgical methods, new drugs increase the cost of work in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 of the first half of the 19th century until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libera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physics, chemistry,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odern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medic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achievements in the field of ANATOMY</a:t>
            </a:r>
            <a:endParaRPr b="0" lang="en-US" sz="40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s Cuvier, a French naturalist, founded comparative anatom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His, the elder, a professor in Basel and Leipzig, studied the structure of the nervous system, the origin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nsidered the greatest embryologist of the 19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hlelm His, Jr. discovered the His beam in 18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o Golgi, a professor in Pavia, discovered multipolar ganglion cells (Golgi cells) in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Fleshing discovered the pyramid ways in 18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dolf Virchow is the founder of pathohistology and the cellular theory of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is a sick cell" - stopped the development of medic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hygiene and social medicine - only well-being, enlightenment and political freedom can lead to improvement of health cond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hysiology</a:t>
            </a: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ois Magendie, creator of experimental physiology, 1822. published the discovery that the anterior spinal roots are motor, and the posterior - sens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same time, Scotsman Charles Bell came to the discovery, which is why it is called the Bell-Magendi 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Richet discovered ANAPHYLAXIA in 1913 and received the Nobel P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theless, the first description of allergic hypersensitivity was described by Hippocrates - aversion to certain types of food, sneezing to the smell of a rose fl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Perovič Pavlov received the Nobel Prize in 1904 for the discovery of conditioned ref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Microbiology and immunology</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Pasteur, a French chemist, made several epoch-making discoveries in the field of bacteriology, opening a completely new era in the development of medic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57, he proved that a microorganism is the cause of wine souring and destroyed that microorganism by cooking (at a temperature of up to 55oC - PASTEURIZATION). In this way, he saved the wine industry in F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lso solved the silkworm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aster</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main merit is the discovery of the vaccine against rabies, which was first administered to a boy, Josip Meister, on July 6, 1885, in Alsace.</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77, he published papers on anthrax research</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y of streptococci and staphylococci (1880) as the causative agents of suppuration of wounds, puerperal sepsis and scarlet f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obert Koch</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Koch, a district doctor in Germany, who received a microscope from his wife for his birthday, began to study the wonderful, invisible world of microorganis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 of bacteria on an artificial substrate, smear method on glass and staining of prepar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the tuberculosis bacillus (1882), anthrax spores (1876), cholera vibrio (18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n the Nobel Prize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Alexandar Fleming</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glish bacteriologist, growing bacteria in the laboratory at St. Mary's Hospital in London in 1928, discovered a culture of fungi in the midst of a culture of bacteria and a ring without bacteria was created around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interpreted what he saw and published the results in 1929. They were not noti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1940, professors from Oxford, Florey and Chain corrected this significant discovery and isolated pure penicillin. Together with Fleming, they received the Nobel Prize in 19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a:hlinkClick r:id="rId1"/>
          </p:cNvPr>
          <p:cNvPicPr/>
          <p:nvPr/>
        </p:nvPicPr>
        <p:blipFill>
          <a:blip r:embed="rId2"/>
          <a:stretch/>
        </p:blipFill>
        <p:spPr>
          <a:xfrm>
            <a:off x="0" y="0"/>
            <a:ext cx="4800600" cy="6858000"/>
          </a:xfrm>
          <a:prstGeom prst="rect">
            <a:avLst/>
          </a:prstGeom>
          <a:ln w="0">
            <a:noFill/>
          </a:ln>
        </p:spPr>
      </p:pic>
      <p:pic>
        <p:nvPicPr>
          <p:cNvPr id="549" name="Picture 3" descr="Alexander Fleming"/>
          <p:cNvPicPr/>
          <p:nvPr/>
        </p:nvPicPr>
        <p:blipFill>
          <a:blip r:embed="rId3"/>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MEDICINE</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ard: "Infinitely long childhood, which lasted for several thousand years...and in less than 100 years she passed from childhood to her mature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Neisser discovered the causative agent of gonorrhea in 187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l Eberth discovered the causative agent of leprosy in 188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in Klebs and Friedrich Loeffler discovered the causative agent of diphtheria in 1883/188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8, Ronald Ross proved that malaria is transmitted by the malaria mosqu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linical and practical medicine</a:t>
            </a:r>
            <a:endParaRPr b="0" lang="en-US" sz="40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oubtedly, they reached unimagined height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luence of Schopenhauer's pessimistic philosophy on the understanding that the patient cannot be helped had far-reaching consequenc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lmost as if doctors worked in clinics only to see what they still don't know at autops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pathological anatomy and physiology, on the one hand, and the devastating results of autopsies, brought to the center of attention the efforts of doctors to learn as much as possible about the changes in the disease during the patient's lifetime and thus perfect diagnostics and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Ignatz Phillip Semmelwei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47, explained the cause of puerperal sep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born in Pest, at the age of 23, in 1846 he became an assistant at the obstetric clinic in Vienna. At that time, there were two obstetric clinics in Vienna - for doctors and midwives. Mortality in the clinic for doctors was 10%, and in the other - 4%. The professors had their own explanation for t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autopsy of a woman in labor who died of puerperal sepsis, a friend of Semmelweiss cut himself, fell ill and died. At his autopsy, he noticed the same changes as the woman in labor. He concluded that the rot from corpses can pass into the wound of a healthy person and infect hi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hloral lime destroys the smell of rot, he determined that hands must be washed in chloral lime before the examination and forbade students to come to the obstetrics clinic immediately after the autops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mmelweis</a:t>
            </a: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published by Ferdinand von Hebra in 1847. Semmelweis explained his work on May 15, 1850. and in October of the same year, he was expelled from the obstetrics clin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fight for the acceptance of his achievements, but in 1865 he was placed in an insane asylum, where he died the same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fate was experienced 5 years before him, the American Holmes ("The Stickiness of Granny Fever") - mocked and forgotten</a:t>
            </a:r>
            <a:r>
              <a:rPr b="0" lang="sr-Latn-R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enry Dunant</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Battle of Solferino, in 1862, he developed the idea of creating the Red 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n the Nobel Prize, lived and died in an orphan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Joseph Lister</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he discovered antisepsi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ur's teaching that agents of putrefaction enter the wound from the air during and after surgery...</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gan to put the instruments in carbonic solution, and bandaged the wounds with bandages soaked in carbolic...</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in 1867. and was quickly accepted in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experienced a special progress in the second half of the 19th century, with the invention of anesthesia and antisep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surgery was developed, which was especially improved by Theodor Billr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branches of surgery are beginning to develop - orthopedics, ur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gery</a:t>
            </a: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rgeon who operated under ether anesthesia on October 16, 1846. was John Collin Warren. It was preceded by a very long and difficult journey, with sacrif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ckman's proposal to use azotoxidul on humans was rejected by the French Academy as nonsensical, and Hickman died of grie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10 years later, the French surgeon Velpaou called it non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Faraday in 1831. discovered induction current, 1834. established the laws of electricity and established the theory of 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bert Mayer - the law of the indestructibility of matter, but the discovery was credited to another scientist (Jo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59, Charles Darwin published a fundamental work on the origin of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ist Horace Wells first used this method in Boston in 1841. He published his favorable knowledge, but suffered a catastrophic fail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urgeon Long was the first to perform an operation under anesthesia. Jackson experimented with ether and recommended it for use in dentistry to a Boston dentist, Mor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on performed the first formal demonstration of ether anesthesia, and Warren was the first surgeon to operate under anesthe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High cost of discovery</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s committed suicide because others robbed him of his glory, Jackson went mad, Morton died in mis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French surgeon Velpo now accepted anesth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he discovered chloroform in 1836. Bell in London, the American Simpson is considered to be the first to use chloroform for anesth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8 nowhere in the world was it acceptable for a man to practice gynec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rthopedics</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ster cast was introduced in 1854 after it was discovered by Anthony Mathije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orthopedics developed rapidly, and in the 20th century, traumatology was separated as a separate subdiscip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Urology</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vention of the cystoscope, 1877. by the German doctor Max Nitze, urology developed rapid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stav Simon extirpated a kidney for the first time in 186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90, Enrico Bottoni operated for the first time on an enlarged pro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Ophthalmology, ENT</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li, professor from Göttingen, was the first to introduce the term ophthalmology in 18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er and Rinne introduce hearing tests, and in 1856. Anton Troeltsch finds the ot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Neurology</a:t>
            </a: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medical discipline, it emerged from internal 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b - 1868. electroreactions in neurological diagno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Hans Berger was the first to introduce electroencephal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1901, Emil Kraepelin created the first modern classification of mental illnesses - dementia precox and manic depressive psych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ugen Bleuler called schizophrenia by that name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sychiatry</a:t>
            </a: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8, Wagner-Jauregg introduced malaria into the therapy of progressive par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34, Meduna began treating schizophrenia with cardiozole sh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year, Sokel introduced insulin shock trea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i and Cerleti, in 1938, introduced electroshock therapy in psychia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3, Sigmund Freud began to publish his works - a revolution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development of therapy in modern times</a:t>
            </a:r>
            <a:endParaRPr b="0" lang="en-US" sz="40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20th century - hypnotics, cardiac drugs, novocaine, mercury diuretics, hormone therapy (insulin) and numerous vitam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icylic acid and diphtheria se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oday - GENETICS, GENETICS, GENE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21st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of natural sciences</a:t>
            </a: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5, Gregor Mendel, abbot from Barne, determined the laws of inheri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itrij Ivanovich Mendeleev discovered the periodic system of chemical elements in 18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0" y="0"/>
            <a:ext cx="9144000" cy="6858000"/>
          </a:xfrm>
          <a:prstGeom prst="rect">
            <a:avLst/>
          </a:prstGeom>
          <a:ln w="0">
            <a:noFill/>
          </a:ln>
        </p:spPr>
      </p:pic>
      <p:sp>
        <p:nvSpPr>
          <p:cNvPr id="591" name="PlaceHolder 1"/>
          <p:cNvSpPr>
            <a:spLocks noGrp="1"/>
          </p:cNvSpPr>
          <p:nvPr>
            <p:ph type="title"/>
          </p:nvPr>
        </p:nvSpPr>
        <p:spPr>
          <a:xfrm>
            <a:off x="457200" y="5943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llenges for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llenges for the Future</a:t>
            </a: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ity/Diabetes Mellit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riatric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Medic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zheimer’s  Disea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Medicai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than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future of medicine</a:t>
            </a: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61720" indent="-261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balance between medicine and science/technology that will be achieved if we use our imagination and have a little luck.</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Questions?</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French bourgeois revolution, three new medical faculties - Paris, Montpellier, Strasbourg - were founded from selected teaching staff of the abolished university instit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gest innovation is the establishment of departments - internal medicine and surgery, followed by obstetrics, forensic medicine and history of medic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velopment of medicine</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began to learn medicine from patients, not just from books in libr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rge hospitals and clinics were fo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tors are changing their previous way of working</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observing the patient, they move on to examining the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physical examination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boratory tests, histological, physiological, pharmac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modern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26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Најбитније карактеристике модерне медицине</a:t>
            </a:r>
            <a:endParaRPr b="0" lang="en-US" sz="40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method of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large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6:52:41Z</dcterms:created>
  <dc:creator>MEDF</dc:creator>
  <dc:description/>
  <dc:language>en-US</dc:language>
  <cp:lastModifiedBy>Dragana Ignjatovic Ristic</cp:lastModifiedBy>
  <dcterms:modified xsi:type="dcterms:W3CDTF">2024-01-25T10:16:26Z</dcterms:modified>
  <cp:revision>41</cp:revision>
  <dc:subject/>
  <dc:title>MODERNA MEDICINA</dc:title>
</cp:coreProperties>
</file>